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4A7F63-D74B-40D9-A5FE-414F992B88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B921E2D3-15D9-43B8-B006-D6FC8436F470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B5FC230-4D1A-4156-9679-CA613B0AF6C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8DBDF6-0C9F-46BE-B550-126C71A73DE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726C6B-759A-44F9-8AAF-4CF936A23AA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9AB4280C-D94B-44D0-9C34-A3F4B19E5BD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392A8F7E-6475-4291-BCB5-1F94FFB9A9D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81000" y="1558800"/>
            <a:ext cx="79390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400" spc="-1" strike="noStrike">
                <a:solidFill>
                  <a:srgbClr val="39536b"/>
                </a:solidFill>
                <a:latin typeface="Arial Narrow"/>
              </a:rPr>
              <a:t>Module 7: Quality I - Managing Defects</a:t>
            </a:r>
            <a:r>
              <a:rPr b="0" lang="en-US" sz="4400" spc="-1" strike="noStrike">
                <a:solidFill>
                  <a:srgbClr val="39536b"/>
                </a:solidFill>
                <a:latin typeface="Century Schoolboo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Injection and Remov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your process, you will have activities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ov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typically occurs when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job 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fy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removal typically occurs when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the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6497640" y="1793880"/>
            <a:ext cx="2199600" cy="4129920"/>
            <a:chOff x="6497640" y="1793880"/>
            <a:chExt cx="2199600" cy="4129920"/>
          </a:xfrm>
        </p:grpSpPr>
        <p:sp>
          <p:nvSpPr>
            <p:cNvPr id="122" name="Line 20"/>
            <p:cNvSpPr/>
            <p:nvPr/>
          </p:nvSpPr>
          <p:spPr>
            <a:xfrm>
              <a:off x="6497640" y="2705400"/>
              <a:ext cx="28548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23" name="Group 29"/>
            <p:cNvGrpSpPr/>
            <p:nvPr/>
          </p:nvGrpSpPr>
          <p:grpSpPr>
            <a:xfrm>
              <a:off x="6651000" y="1793880"/>
              <a:ext cx="2046240" cy="4129920"/>
              <a:chOff x="6651000" y="1793880"/>
              <a:chExt cx="2046240" cy="4129920"/>
            </a:xfrm>
          </p:grpSpPr>
          <p:sp>
            <p:nvSpPr>
              <p:cNvPr id="124" name="Text Box 5"/>
              <p:cNvSpPr/>
              <p:nvPr/>
            </p:nvSpPr>
            <p:spPr>
              <a:xfrm>
                <a:off x="7143840" y="1806120"/>
                <a:ext cx="79560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Plan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5" name="Text Box 6"/>
              <p:cNvSpPr/>
              <p:nvPr/>
            </p:nvSpPr>
            <p:spPr>
              <a:xfrm>
                <a:off x="7185600" y="4911120"/>
                <a:ext cx="78048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Test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6" name="Text Box 7"/>
              <p:cNvSpPr/>
              <p:nvPr/>
            </p:nvSpPr>
            <p:spPr>
              <a:xfrm>
                <a:off x="6836760" y="3187800"/>
                <a:ext cx="146556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Personal review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7" name="Text Box 8"/>
              <p:cNvSpPr/>
              <p:nvPr/>
            </p:nvSpPr>
            <p:spPr>
              <a:xfrm>
                <a:off x="7130160" y="2504160"/>
                <a:ext cx="90396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Build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8" name="Text Box 9"/>
              <p:cNvSpPr/>
              <p:nvPr/>
            </p:nvSpPr>
            <p:spPr>
              <a:xfrm>
                <a:off x="6849000" y="5451840"/>
                <a:ext cx="1417680" cy="43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Field use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29" name="Text Box 10"/>
              <p:cNvSpPr/>
              <p:nvPr/>
            </p:nvSpPr>
            <p:spPr>
              <a:xfrm>
                <a:off x="6651000" y="4028040"/>
                <a:ext cx="181764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480" bIns="51480" anchor="t">
                <a:spAutoFit/>
              </a:bodyPr>
              <a:p>
                <a:pPr algn="ctr"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2200" spc="-1" strike="noStrike">
                    <a:solidFill>
                      <a:srgbClr val="39536b"/>
                    </a:solidFill>
                    <a:latin typeface="Arial"/>
                  </a:rPr>
                  <a:t>Team inspection</a:t>
                </a:r>
                <a:endParaRPr b="0" lang="en-US" sz="22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0" name="Rectangle 12"/>
              <p:cNvSpPr/>
              <p:nvPr/>
            </p:nvSpPr>
            <p:spPr>
              <a:xfrm>
                <a:off x="6768720" y="1793880"/>
                <a:ext cx="1599840" cy="470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1" name="Rectangle 13"/>
              <p:cNvSpPr/>
              <p:nvPr/>
            </p:nvSpPr>
            <p:spPr>
              <a:xfrm>
                <a:off x="6768720" y="5454000"/>
                <a:ext cx="1599840" cy="46980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2" name="Rectangle 14"/>
              <p:cNvSpPr/>
              <p:nvPr/>
            </p:nvSpPr>
            <p:spPr>
              <a:xfrm>
                <a:off x="6768720" y="4898520"/>
                <a:ext cx="1599840" cy="4838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3" name="Rectangle 15"/>
              <p:cNvSpPr/>
              <p:nvPr/>
            </p:nvSpPr>
            <p:spPr>
              <a:xfrm>
                <a:off x="6768720" y="4043880"/>
                <a:ext cx="1599840" cy="7833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4" name="Rectangle 16"/>
              <p:cNvSpPr/>
              <p:nvPr/>
            </p:nvSpPr>
            <p:spPr>
              <a:xfrm>
                <a:off x="6768720" y="3189600"/>
                <a:ext cx="1599840" cy="78300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5" name="Rectangle 17"/>
              <p:cNvSpPr/>
              <p:nvPr/>
            </p:nvSpPr>
            <p:spPr>
              <a:xfrm>
                <a:off x="6768720" y="2334960"/>
                <a:ext cx="1599840" cy="78300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6" name="Line 21"/>
              <p:cNvSpPr/>
              <p:nvPr/>
            </p:nvSpPr>
            <p:spPr>
              <a:xfrm>
                <a:off x="8368560" y="357408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7" name="Line 26"/>
              <p:cNvSpPr/>
              <p:nvPr/>
            </p:nvSpPr>
            <p:spPr>
              <a:xfrm>
                <a:off x="8368560" y="442872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8" name="Line 27"/>
              <p:cNvSpPr/>
              <p:nvPr/>
            </p:nvSpPr>
            <p:spPr>
              <a:xfrm>
                <a:off x="8368560" y="512640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39" name="Line 28"/>
              <p:cNvSpPr/>
              <p:nvPr/>
            </p:nvSpPr>
            <p:spPr>
              <a:xfrm>
                <a:off x="8383320" y="5681880"/>
                <a:ext cx="313920" cy="0"/>
              </a:xfrm>
              <a:prstGeom prst="line">
                <a:avLst/>
              </a:prstGeom>
              <a:ln w="12600">
                <a:solidFill>
                  <a:srgbClr val="39536b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Techniqu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30320" y="1747440"/>
            <a:ext cx="76420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s (inspections, walkthroughs, personal review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product or interim development artifacts of the produc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and eliminat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s the product or parts of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es that the product works correc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ies potential defects or sympto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any cases, projects rely on testing to find and fix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is happens, many defects are found in the field by the custom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 were introduced by Fagan at IBM in 1976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to find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 follow a structured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ers perform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do not atte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participant has a defined ro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ation is requi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 are useful for requirements, designs, code, test cases, plans, and the li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alkthrough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lkthroughs are less formal and less structured than inspe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to communicate, discuss, or obtain approv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lkthroughs typically follow a meeting forma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 leads the audience through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udience may include peers, managers, or other interested par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preparation is requi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lkthroughs are most useful for requirements and system design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sonal Review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180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reviews are structured, data-driven reviews conducted by individuals on their own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to find defects before the individual’s part of the product is integrated into the larger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a personal review, individu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vately review their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ertify that their product is defect-fre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s can be used for review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im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documentation that supports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such as requirements, designs, or test procedur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esting, the products are exercised to prove that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what they are suppos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do what they are not suppos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 occurs at various levels throughout the develop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t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ptance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te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eld t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blems with Tes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ying on tests to remove defects can be cos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oday’s complex syst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innumerable possible operating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impossible to test every cond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 must focus on the most frequent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tensive user testing finds mor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unlikely that testing can remove more than 40% of the defects present in the product when going into the tes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ne Way to Think Abou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nk of defects as land min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hard to fi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don’t cause problems until you stumble across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find them, you could be in serious trou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ing defects through testing or using the product is like clearing a path through a mine field:  travelers are only safe on the cleared pathway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iplined processes use personal reviews to clear the entire “mine field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ress Operating Regions in Softwar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1663560" y="2508120"/>
            <a:ext cx="3602160" cy="3508560"/>
          </a:xfrm>
          <a:prstGeom prst="ellipse">
            <a:avLst/>
          </a:prstGeom>
          <a:solidFill>
            <a:srgbClr val="39536b"/>
          </a:solidFill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5440" y="2176560"/>
            <a:ext cx="1289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Overlo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995720" y="2927520"/>
            <a:ext cx="1418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Hardware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failur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898880" y="5194440"/>
            <a:ext cx="1262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Operat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795760" y="6035760"/>
            <a:ext cx="164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Data err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698400" y="5208480"/>
            <a:ext cx="1660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conten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60640" y="2960640"/>
            <a:ext cx="1855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Configur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2516040" y="3451320"/>
            <a:ext cx="1954440" cy="1558800"/>
          </a:xfrm>
          <a:custGeom>
            <a:avLst/>
            <a:gdLst/>
            <a:ahLst/>
            <a:rect l="l" t="t" r="r" b="b"/>
            <a:pathLst>
              <a:path w="1094" h="876">
                <a:moveTo>
                  <a:pt x="200" y="146"/>
                </a:moveTo>
                <a:lnTo>
                  <a:pt x="209" y="91"/>
                </a:lnTo>
                <a:lnTo>
                  <a:pt x="282" y="35"/>
                </a:lnTo>
                <a:lnTo>
                  <a:pt x="355" y="17"/>
                </a:lnTo>
                <a:lnTo>
                  <a:pt x="391" y="17"/>
                </a:lnTo>
                <a:lnTo>
                  <a:pt x="464" y="8"/>
                </a:lnTo>
                <a:lnTo>
                  <a:pt x="501" y="0"/>
                </a:lnTo>
                <a:lnTo>
                  <a:pt x="537" y="8"/>
                </a:lnTo>
                <a:lnTo>
                  <a:pt x="573" y="17"/>
                </a:lnTo>
                <a:lnTo>
                  <a:pt x="601" y="35"/>
                </a:lnTo>
                <a:lnTo>
                  <a:pt x="628" y="46"/>
                </a:lnTo>
                <a:lnTo>
                  <a:pt x="701" y="64"/>
                </a:lnTo>
                <a:lnTo>
                  <a:pt x="755" y="73"/>
                </a:lnTo>
                <a:lnTo>
                  <a:pt x="828" y="73"/>
                </a:lnTo>
                <a:lnTo>
                  <a:pt x="855" y="82"/>
                </a:lnTo>
                <a:lnTo>
                  <a:pt x="883" y="82"/>
                </a:lnTo>
                <a:lnTo>
                  <a:pt x="956" y="100"/>
                </a:lnTo>
                <a:lnTo>
                  <a:pt x="983" y="118"/>
                </a:lnTo>
                <a:lnTo>
                  <a:pt x="1001" y="173"/>
                </a:lnTo>
                <a:lnTo>
                  <a:pt x="1019" y="228"/>
                </a:lnTo>
                <a:lnTo>
                  <a:pt x="1037" y="255"/>
                </a:lnTo>
                <a:lnTo>
                  <a:pt x="1057" y="291"/>
                </a:lnTo>
                <a:lnTo>
                  <a:pt x="1084" y="319"/>
                </a:lnTo>
                <a:lnTo>
                  <a:pt x="1093" y="346"/>
                </a:lnTo>
                <a:lnTo>
                  <a:pt x="1093" y="410"/>
                </a:lnTo>
                <a:lnTo>
                  <a:pt x="1093" y="464"/>
                </a:lnTo>
                <a:lnTo>
                  <a:pt x="1093" y="537"/>
                </a:lnTo>
                <a:lnTo>
                  <a:pt x="1093" y="592"/>
                </a:lnTo>
                <a:lnTo>
                  <a:pt x="1093" y="665"/>
                </a:lnTo>
                <a:lnTo>
                  <a:pt x="1093" y="719"/>
                </a:lnTo>
                <a:lnTo>
                  <a:pt x="1093" y="756"/>
                </a:lnTo>
                <a:lnTo>
                  <a:pt x="1093" y="792"/>
                </a:lnTo>
                <a:lnTo>
                  <a:pt x="1093" y="819"/>
                </a:lnTo>
                <a:lnTo>
                  <a:pt x="1093" y="848"/>
                </a:lnTo>
                <a:lnTo>
                  <a:pt x="1066" y="866"/>
                </a:lnTo>
                <a:lnTo>
                  <a:pt x="965" y="875"/>
                </a:lnTo>
                <a:lnTo>
                  <a:pt x="892" y="875"/>
                </a:lnTo>
                <a:lnTo>
                  <a:pt x="828" y="875"/>
                </a:lnTo>
                <a:lnTo>
                  <a:pt x="737" y="875"/>
                </a:lnTo>
                <a:lnTo>
                  <a:pt x="683" y="875"/>
                </a:lnTo>
                <a:lnTo>
                  <a:pt x="646" y="875"/>
                </a:lnTo>
                <a:lnTo>
                  <a:pt x="619" y="857"/>
                </a:lnTo>
                <a:lnTo>
                  <a:pt x="528" y="857"/>
                </a:lnTo>
                <a:lnTo>
                  <a:pt x="437" y="848"/>
                </a:lnTo>
                <a:lnTo>
                  <a:pt x="364" y="839"/>
                </a:lnTo>
                <a:lnTo>
                  <a:pt x="309" y="839"/>
                </a:lnTo>
                <a:lnTo>
                  <a:pt x="282" y="819"/>
                </a:lnTo>
                <a:lnTo>
                  <a:pt x="255" y="801"/>
                </a:lnTo>
                <a:lnTo>
                  <a:pt x="218" y="783"/>
                </a:lnTo>
                <a:lnTo>
                  <a:pt x="146" y="774"/>
                </a:lnTo>
                <a:lnTo>
                  <a:pt x="91" y="765"/>
                </a:lnTo>
                <a:lnTo>
                  <a:pt x="55" y="747"/>
                </a:lnTo>
                <a:lnTo>
                  <a:pt x="26" y="728"/>
                </a:lnTo>
                <a:lnTo>
                  <a:pt x="8" y="701"/>
                </a:lnTo>
                <a:lnTo>
                  <a:pt x="0" y="665"/>
                </a:lnTo>
                <a:lnTo>
                  <a:pt x="0" y="628"/>
                </a:lnTo>
                <a:lnTo>
                  <a:pt x="0" y="592"/>
                </a:lnTo>
                <a:lnTo>
                  <a:pt x="17" y="492"/>
                </a:lnTo>
                <a:lnTo>
                  <a:pt x="26" y="464"/>
                </a:lnTo>
                <a:lnTo>
                  <a:pt x="26" y="437"/>
                </a:lnTo>
                <a:lnTo>
                  <a:pt x="26" y="328"/>
                </a:lnTo>
                <a:lnTo>
                  <a:pt x="26" y="200"/>
                </a:lnTo>
                <a:lnTo>
                  <a:pt x="26" y="127"/>
                </a:lnTo>
                <a:lnTo>
                  <a:pt x="82" y="109"/>
                </a:lnTo>
                <a:lnTo>
                  <a:pt x="155" y="118"/>
                </a:lnTo>
                <a:lnTo>
                  <a:pt x="228" y="127"/>
                </a:lnTo>
                <a:lnTo>
                  <a:pt x="255" y="137"/>
                </a:lnTo>
                <a:lnTo>
                  <a:pt x="218" y="146"/>
                </a:lnTo>
                <a:lnTo>
                  <a:pt x="191" y="146"/>
                </a:lnTo>
                <a:lnTo>
                  <a:pt x="200" y="146"/>
                </a:lnTo>
              </a:path>
            </a:pathLst>
          </a:custGeom>
          <a:solidFill>
            <a:srgbClr val="04abbb"/>
          </a:solidFill>
          <a:ln cap="rnd" w="25560">
            <a:solidFill>
              <a:srgbClr val="9c21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 flipH="1">
            <a:off x="2550600" y="3503520"/>
            <a:ext cx="631800" cy="53352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2550960" y="3486240"/>
            <a:ext cx="943200" cy="87480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H="1">
            <a:off x="2550960" y="3567240"/>
            <a:ext cx="1185840" cy="111744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2777760" y="3598920"/>
            <a:ext cx="1235160" cy="12160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H="1">
            <a:off x="3006360" y="3665520"/>
            <a:ext cx="1266840" cy="121284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H="1">
            <a:off x="3298320" y="3892680"/>
            <a:ext cx="1055880" cy="10522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3591000" y="4086360"/>
            <a:ext cx="861840" cy="8902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3884760" y="4394160"/>
            <a:ext cx="568080" cy="58248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4160520" y="4686480"/>
            <a:ext cx="307800" cy="306360"/>
          </a:xfrm>
          <a:prstGeom prst="line">
            <a:avLst/>
          </a:prstGeom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3475080" y="2511360"/>
            <a:ext cx="1440" cy="3519720"/>
          </a:xfrm>
          <a:prstGeom prst="line">
            <a:avLst/>
          </a:prstGeom>
          <a:ln w="25560">
            <a:solidFill>
              <a:srgbClr val="efede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060640" y="3178080"/>
            <a:ext cx="2878200" cy="2108160"/>
          </a:xfrm>
          <a:prstGeom prst="line">
            <a:avLst/>
          </a:prstGeom>
          <a:ln w="25560">
            <a:solidFill>
              <a:srgbClr val="efede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 flipV="1">
            <a:off x="1994040" y="3160800"/>
            <a:ext cx="2894040" cy="2139840"/>
          </a:xfrm>
          <a:prstGeom prst="line">
            <a:avLst/>
          </a:prstGeom>
          <a:ln w="25560">
            <a:solidFill>
              <a:srgbClr val="efede5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5721120" y="1514520"/>
            <a:ext cx="2867040" cy="1326240"/>
          </a:xfrm>
          <a:prstGeom prst="rect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region - test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triped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afe region - untest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olid color)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Phases as Fil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oftware, data show that it is much more efficient to find defects in reviews than in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erienced reviewers can find 70% or more of the defects in a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 rarely removals more than 40%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defect removal phases of a project as filte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 review, inspection, compile, and test finds only a fraction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leaner the product is when entering a phase, the cleaner it will be on ex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umber of defects that are delivered in the final product is determined by how effective each filter is at remov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Simple Example of Fil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79" name="Group 19"/>
          <p:cNvGrpSpPr/>
          <p:nvPr/>
        </p:nvGrpSpPr>
        <p:grpSpPr>
          <a:xfrm>
            <a:off x="1784520" y="1490760"/>
            <a:ext cx="1817280" cy="5037840"/>
            <a:chOff x="1784520" y="1490760"/>
            <a:chExt cx="1817280" cy="5037840"/>
          </a:xfrm>
        </p:grpSpPr>
        <p:sp>
          <p:nvSpPr>
            <p:cNvPr id="180" name="Text Box 4"/>
            <p:cNvSpPr/>
            <p:nvPr/>
          </p:nvSpPr>
          <p:spPr>
            <a:xfrm>
              <a:off x="2277000" y="1665720"/>
              <a:ext cx="795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Plan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2318760" y="5083920"/>
              <a:ext cx="7804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Test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1970280" y="3204720"/>
              <a:ext cx="146520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Personal review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2263320" y="2509920"/>
              <a:ext cx="90396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Build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1982520" y="5955480"/>
              <a:ext cx="14176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Field use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1784520" y="4048920"/>
              <a:ext cx="18172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480" bIns="51480" anchor="t">
              <a:sp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200" spc="-1" strike="noStrike">
                  <a:solidFill>
                    <a:srgbClr val="39536b"/>
                  </a:solidFill>
                  <a:latin typeface="Arial"/>
                </a:rPr>
                <a:t>Team inspection</a:t>
              </a:r>
              <a:endParaRPr b="0" lang="en-US" sz="2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86" name="Group 18"/>
            <p:cNvGrpSpPr/>
            <p:nvPr/>
          </p:nvGrpSpPr>
          <p:grpSpPr>
            <a:xfrm>
              <a:off x="1902240" y="1490760"/>
              <a:ext cx="1599120" cy="5037840"/>
              <a:chOff x="1902240" y="1490760"/>
              <a:chExt cx="1599120" cy="5037840"/>
            </a:xfrm>
          </p:grpSpPr>
          <p:sp>
            <p:nvSpPr>
              <p:cNvPr id="187" name="Rectangle 12"/>
              <p:cNvSpPr/>
              <p:nvPr/>
            </p:nvSpPr>
            <p:spPr>
              <a:xfrm>
                <a:off x="1902240" y="1490760"/>
                <a:ext cx="1599120" cy="7484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8" name="Rectangle 13"/>
              <p:cNvSpPr/>
              <p:nvPr/>
            </p:nvSpPr>
            <p:spPr>
              <a:xfrm>
                <a:off x="1902240" y="5779440"/>
                <a:ext cx="1599120" cy="749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9" name="Rectangle 14"/>
              <p:cNvSpPr/>
              <p:nvPr/>
            </p:nvSpPr>
            <p:spPr>
              <a:xfrm>
                <a:off x="1902240" y="4921920"/>
                <a:ext cx="1599120" cy="7484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0" name="Rectangle 15"/>
              <p:cNvSpPr/>
              <p:nvPr/>
            </p:nvSpPr>
            <p:spPr>
              <a:xfrm>
                <a:off x="1902240" y="4064040"/>
                <a:ext cx="1599120" cy="749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1" name="Rectangle 16"/>
              <p:cNvSpPr/>
              <p:nvPr/>
            </p:nvSpPr>
            <p:spPr>
              <a:xfrm>
                <a:off x="1902240" y="3206160"/>
                <a:ext cx="1599120" cy="74844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2" name="Rectangle 17"/>
              <p:cNvSpPr/>
              <p:nvPr/>
            </p:nvSpPr>
            <p:spPr>
              <a:xfrm>
                <a:off x="1902240" y="2348280"/>
                <a:ext cx="1599120" cy="749160"/>
              </a:xfrm>
              <a:prstGeom prst="rect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20"/>
          <p:cNvSpPr/>
          <p:nvPr/>
        </p:nvSpPr>
        <p:spPr>
          <a:xfrm>
            <a:off x="214200" y="1620720"/>
            <a:ext cx="1654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4138560" y="2484360"/>
            <a:ext cx="1681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Defects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6265800" y="2484360"/>
            <a:ext cx="2205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emaining in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727560" y="2544840"/>
            <a:ext cx="6721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168080" y="3363840"/>
            <a:ext cx="19540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00 * .7 = 14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4325040" y="4168800"/>
            <a:ext cx="16430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60 * .7 = 4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4296600" y="5081760"/>
            <a:ext cx="17208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7 * .4 = 6.8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7053480" y="5081760"/>
            <a:ext cx="516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1343160" y="2762280"/>
            <a:ext cx="5569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14680" y="3581280"/>
            <a:ext cx="555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514680" y="5310360"/>
            <a:ext cx="555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514680" y="4398840"/>
            <a:ext cx="555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7053480" y="4168800"/>
            <a:ext cx="516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53480" y="3363840"/>
            <a:ext cx="516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3908520" y="5608800"/>
            <a:ext cx="52354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How many defects would remain if the personal review was not don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ost of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the costs of these two scenario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 individual finds and fixes a mistake early in a proje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und using a personal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kes a few minutes or an hour to fix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 one else is involv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customer finds a problem in the fiel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und during acceptance test or field u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wards problem to the developing organiz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ing organization analyzes the problem, routes it through engineering, identifies where defect i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 individual finds and fixes the mistak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x is recompiled, retested, returned to the fiel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much more does the second scenario cos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Personal Quality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counter-productive to build defective products and fix them in test or once the product is completed and shipp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s on quality must start at the begi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high-quality personal proces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removing defects ear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data on every def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se data to assess product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se data to improv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individuals follow this strategy, the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higher-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more capable of meeting schedules and budge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quality focus is on manag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are injected by individuals, and they must be removed by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defects in your personal process will help you to produce better products on time and within budg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the highest possible quality at every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early defect removal; don’t rely on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personal reviews of all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ys do you have to remove defects in your domai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ethods can you use in your domain to find and fix defects early in the cycle, or to prevent defects altogeth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 kn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quality and defects are defined in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the PSP focuses on managing personal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rious techniques for remov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alue of finding and removing defects ear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ing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and remov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oving defects ear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ffects of Poor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how poor quality has an adverse effect in these examp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bounced chec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recalls in the automobile indust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house that does not meet the buyer’s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per diagnosis of a patient’s sympto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ss of sa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ustry leaving tow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effect of poor quality on the users of your produ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Quality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ic definition:  Meeting the user’s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categories of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ties (e.g., maintainability, reliability, usability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s focus primarily on functionality and, to a lesser extent, proper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process must focus on def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Defect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defect is something in a product that is incorr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not what was inten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must be changed to produce a correct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can result 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rect function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or op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per install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fusing or incorrect docum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rror-prone modification and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can occur in finished products, in specifications, or even in plans and requirements docu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Focus on Defect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oftware organizations, a significant number of resources are dedicated to fix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are very costly.  As we will see, it is beneficial to find and remove defects early in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asons for managing defect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better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 your ability to develop products on time and within budg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at the Personal Leve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, defects are the basic quality measure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focuses on finding, removing, and managing defects at the individual leve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ersonal level is where the defects are injected, and this is where the individual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ove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ir cau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to prevent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ty personal process is one that finds and removes defects before the products are shipp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3-15T20:59:43Z</cp:lastPrinted>
  <dcterms:modified xsi:type="dcterms:W3CDTF">2018-09-06T00:16:06Z</dcterms:modified>
  <cp:revision>190</cp:revision>
  <dc:subject/>
  <dc:title>No Slide Title</dc:title>
</cp:coreProperties>
</file>